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5B5-6B4D-45FB-9E52-DB25A023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28C-A79E-4657-BA1E-927A8DC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53367-D61B-4D93-9AF4-690DE2D0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D7D42-7213-442D-AEF7-AB974C89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D8D44-9B29-4146-81CC-69E1198E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024BD-833E-4889-B802-147F0FC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B4C00-D9EE-45B9-933A-2120C48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89FDE-0EC4-4CED-BB05-2C548799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9C09A-EA3A-4356-B85C-D54A10E7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4BFA9-6E97-4027-BC8F-0A3270BF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B949D-91FE-46A5-8F1A-50492A0E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E7050-169B-4A3B-96EC-43874F19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A56-A3FA-4E21-8C4E-094FA1B9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11A4-C253-4C95-90E4-A93ABF17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D809D-C6B3-47E6-A69C-4659C483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1CFCC-8F90-47BC-A4C3-DAD3B06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F528E-D197-4903-AF16-5D0B1D27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54876-3697-463A-A5F0-94AF1D2C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78D76-325D-42C3-8A57-239C19B3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6B8A7-F172-4D97-A33A-970F3C46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F14F2-4F2D-47A2-8DF0-5DAA117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5E492-7C97-4144-B448-7D934E62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728E3-86E9-4C7E-BB26-69099015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32D-A254-4090-BC1A-101C597F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8187B-BA6A-4359-B8F0-EC619BAB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28FE7-7ED7-488A-A43F-2B63432C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9FBEC-1B57-45A1-9C64-A7947CB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38221-E13D-47DA-A6AE-3F559C9E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227DB-A40E-42A0-B586-293457E3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486ED-874F-4EAE-B9FD-BCBA5464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E6921-67A7-4773-A4AD-BFE5B32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95986-8781-4218-AAEF-08CFE307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E729F-C9D8-48A7-A16C-020919D8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120AE-651B-43E2-9A39-BCD2E461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1A0B-6353-4E94-8FDB-69BC9037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7D219-2529-4332-8043-1BECC2E8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1FD6D-4BCE-488B-BCBF-D3BB26C5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D181D-C93F-49E8-888E-4D672291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79DEA-7D8C-488F-95B7-9D323D64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5FF94-0C7C-44F3-A75A-A8A7014C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2F64B-9772-4B59-BBF3-1806211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7DA98-5BEC-401A-8070-E6C81F9E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81BD9-8AC4-4C5A-8C66-323B85BC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182B8-EEF0-4111-B089-C594DB26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E7683-B9C0-4D28-A66E-C6A6E8A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DE1A-9D57-4F44-A611-32F765D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05D0D-FE4B-4C5C-BF61-FC19802E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B58D9-D485-4458-AED4-9EE5F5C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61A2A-907F-4897-8D18-5135E899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AFC0F-863B-4EC6-A2A8-5452D32F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AB93A-49AC-46B9-B835-0C599DB6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2433A-1D72-4AAB-9E85-185A714A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3E692-89E6-4785-9684-D98DA9F0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05199-BAA7-44CC-A7A4-E93253C3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751A2-72EF-480B-8805-B3AD722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40390-9A88-4C6F-97D2-AFA12C20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44EB-6143-471D-B6D5-DCEEC7C0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0F122-116A-48A4-AFEB-A72D56D9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B5DA4-D778-4A50-A56F-FE4FABAA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0230B-9BEE-41D1-9118-A694E60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B205E-5853-4607-A485-1B7E8D5D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2049F-77C6-487E-BA26-574D72ED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E38D0-0D69-4D15-8173-3F538A1F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510EA-A9F3-444D-8CE5-5CC33308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C5280-C6CB-417F-A511-31F0F63B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11D12-1982-47F4-A303-33837426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A1A64-D05F-4431-977E-AE87EECD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6E4B-2B7E-4F5A-9BC3-C5ABA93F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969A5-068F-4942-8344-9B454654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546AA-30A5-4758-8EEB-85B44CCF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C5767-41B6-41D1-9D85-FCB67D3C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7507C-2A23-43CC-B382-6BD090EC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2F8DC-A703-4988-86D9-FAFC873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CA4B7-E766-4CC6-850D-1C71D0C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DFE31-1FF0-4742-BA39-7EE62E4E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14ABA-5384-47B0-B78D-68FD8651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D6810-C7C1-4C75-8368-EDC7ACA7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2214D-5F91-46C5-B881-A0DDF8B6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25A1-8E60-44E1-80FC-CDB8B8EF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EC198-3D09-4D5B-9153-EE14DDBD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E3F73-0975-4C7A-92F6-26AB543D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BB0F1-DF0D-4136-9E5A-47121567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347C6-E2B2-4EA9-AF0B-1039D732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4AC78-18C0-4A74-BE1F-039EC284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51B9A-14A3-4630-BB8D-C3B9EBAE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8395E-3F7C-4562-B1BC-AD3AB27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DD24B3-DE0A-4311-902D-436E4D4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C5F78-2CEF-456D-91D3-5A3576E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3AEA4-0562-4D5F-B1CB-F69961CE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C81E-51E9-4F11-8220-0C2D1CAA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5647F-C04F-4BDF-838E-037B5EFE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62F62-89D4-4062-B986-CCF63FCA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22971-D484-4AED-9662-2529A81F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5AAC6-5F54-471E-8589-2E9B930B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6508E-18DF-4290-BC76-62872275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86F34-8157-4AE5-B38D-51752E28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476C34-8836-46FD-9CB5-A253ECA9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B218A-FA41-40C0-9D86-728BAF0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DBF1C-778A-456C-A8AE-6B33ED5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8B773-7627-4EEC-BD22-F6D8CE3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D945-5609-48AC-8F4F-7BB4B18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EBAE6-A394-448C-991D-7144867C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A521D-9965-44D7-B6CF-C7BB3AF9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538C5-2951-4865-8564-43FBA7D6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A77E8-8E08-41C2-97CE-D634FD9A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C6B7E-C382-4168-B882-14469A0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263BF-511E-45C7-930A-FF59B113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79182-1A0B-41B8-8209-5AFD0C7B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D3E14-8E41-4E83-B87A-1744C01F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E12377-C908-4D36-B976-F569D49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95909-4AD2-44EE-B0A3-2486D91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1B4-971D-40BA-9E40-5D23ADE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DBAF-B930-421B-917A-42C96DD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894CA-0DD6-484F-B790-DDF83C5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867CC4-49A1-4E7B-9787-CB39F521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6D0E6-1A11-4B9A-BBB2-C533E7DE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E58A9-151B-4EDD-A931-B782E43E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0050A-5B98-41AE-A284-DD1884F7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DC68B-2094-4C73-A458-860CB207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E32B9-3C14-4738-A741-5EF83E9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AD773-979E-47D8-8294-CEFB6E1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5ABEA-5314-4D1E-A532-567017E0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AEF9C-7417-41E5-893F-F0A492D5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F501-C196-4A6D-B22A-28CAC01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69F51-FD97-4B69-A3D0-AA7115C3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7ECD6B-3CAE-4335-925F-B48D681E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0E8AC-6488-439A-AA59-0988842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975F1-CAD6-4E42-AE7A-3AF4994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DF309-9F2B-493E-9B87-289F1474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89FE4-A9A8-4119-B257-A93B7A1D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4B735-5E1D-4212-93B3-D5804815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17B65-437C-4028-AE5F-9A20ACFB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7E11B-937B-403E-B188-FB89C938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46846-C641-4396-AC30-93D1428C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0077-723C-4FDB-8DC0-58F06DDE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1853D-FB09-47CE-9BB8-F491E4EB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5A0A5-2F07-4F06-B3A0-D596FD46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5DD571-1970-4FEF-BE82-7523AD88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A310B-49E1-41A5-9630-4AE55978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BF522-7C12-47E0-978A-112C77F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497C2-4950-40CE-B446-69087B4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62E5B-0422-41B2-B932-24E740C7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AD4C3-75EB-4DB3-95CE-9B8D3413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41439-7470-4531-BFCA-D9F9CB9A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76F38-00CE-43F9-A91F-91B2DF4E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18C2-E2C5-4D8F-B5CC-00D75F77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41B0E-76FE-46E8-B57F-BCCE9D31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D8197-0AA3-4EA4-AA90-09193E4C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3F5D6-2AF2-4345-A4B8-E9721C98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2BEFE-30E9-401A-A308-E8BDC5AF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E1124-A481-4236-AF59-7C22D8F1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1EB4A-C199-4259-917E-181CF8B2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E67FA6-7B6D-4896-BACB-E97B30D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B66B72-2CF7-487E-BD34-5D921CA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02E7E-AAED-420B-9708-4FD16E3E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82BA1-FE32-4C14-A234-927BA518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BCC8-CE02-4560-AA5D-CAF43500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B5EC0-1907-47C0-9638-D0E821B8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58E7F-FBDF-4663-B116-CA054F8E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6A1955-158F-445F-9197-4A72F01D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25EDF1-456C-4262-A6E3-CFC6AAAF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54FD6-511F-48D0-AB07-09E37472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76FE2-127F-4126-932B-ADB5755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AA7C21-1B3E-4AF0-AA45-48DC07FA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EE81E-7422-4AD2-86DC-F3D254E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92037-F54B-42E7-BF04-57022602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FD9F9-EE12-4000-B165-8FBEF040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D0F0-FB2E-4AE6-BC85-44D1FC3C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6D448C-F3C1-43DF-AD5B-7F72552F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AD96F1-225E-4ADC-AA28-79AF1431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4A470-8FBD-4FB4-B7A4-F1017F28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8E53-59FE-4115-A107-89537385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F40B-19CF-4029-9D5A-0D461C22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562A-F13B-4AD2-8D18-CF5762B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B83E-12ED-45B4-9BA2-952C1574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9AF-B0EE-464B-B0CF-7CC58266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75969-6F64-41FD-A9EE-6606D572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497C-949E-4CAF-9654-6A4260F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3564-99C7-43E8-88F6-FA0DF429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6CC8-706F-4C56-AA66-87DC7C54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9206-659C-4B69-A1F3-14341CBA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07A8-8919-464B-8F24-09EED9D3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1D41-2829-45CE-883A-DD300440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44CE-B082-4A43-ADA1-2C1AB063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8DB5-1F47-4B47-9084-09D9C8E0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CEAD-506B-4187-B6E3-661770AB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7B1-56A4-40FF-BA33-C6D9AA4B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A57D-D0C4-4E8D-9DCE-A261366C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D320-0AC8-4E2C-95C1-543BB1AB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771E-E475-41A8-8F9D-05C8D4DF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B8E9-93F4-4D8C-975D-5E9598B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69161-4C70-4009-A47C-5816C75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EC98-D8F7-400A-9140-682A036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71E3-5F24-4E30-ADE3-02CCC15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8F14-A0A7-419C-B1A9-40AC5E4E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116A-C97B-49BB-AAFC-FE18AAFF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700D-EAD6-4CB4-BD60-F5A9C6AA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95F-F489-4EDC-9937-101CAC5F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C2B7-CC88-4CBD-B18E-3B297373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8A1C-E0B8-4E21-8F12-956F37F1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AFD3-72B6-48B0-B0D7-0B749585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723B0-CDF7-49C3-8BD0-034B887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6440-51D6-4ECC-B7F8-539B9F62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DFDD5-1183-47CE-8D2B-973CDD31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7272-2D29-415B-95C7-56C8F3E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4FD60-CE06-44EC-8791-F7FB2F1F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5AA9-3C8B-4FBD-890D-0B8A5EE6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AC1E-42A1-4054-9554-B61CA924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8E5-B1FA-42C6-9A36-2B2EBC81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30B57-0FBE-4FEC-999F-E72F45C3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7BE4-90CE-4B41-9078-70D10682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BFEF4-0B59-4B9D-94C7-159F3EA0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F88F6-A819-4DFE-B771-8036AF12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68271-B37B-4776-8774-BF4415ED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9D162-1FA0-40CE-8503-C8A281E2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9DA37-B97A-4AC8-AD36-4BA8C9E7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A16C3-C2F0-4B85-A53C-5CA15320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2140-ECDD-4AF9-B5C3-6316DA71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17688-1F54-4C35-A51D-2FD3E771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2B1-B555-4448-BBD2-A87A331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80A4A-42D6-4849-9523-8F9C341D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00B1-FC07-4AA9-9A38-97BE1B7A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FDC5-04B9-480B-9BD4-FBAF9ED4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8F62D-2AF1-4119-84EB-654BA179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BFB94-2390-4E3C-BBA8-A897BDB4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BB6E-54AE-4648-BA51-4ACB401E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9387C-5BD4-46D1-918D-1E805962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64BC-87D3-4637-B133-D1DD1981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7637A-4DE6-4A70-A6F6-7D9DB267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CD43E-FAAD-46E8-9579-9E964B2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21A-CD48-49AB-B193-042F6F12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5CE94-77D4-4823-8C25-F775534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A3F46-269B-4E00-8460-7A21C0B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2419E-F031-4385-B580-F334094F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1844E-D879-4085-B41D-11B44EF2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1C99-B9FE-49E0-A275-C6F43E38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6CE85-0565-4416-878C-31296925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B5C6-8392-42E5-B6ED-CCA5402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265E9-6F5F-4192-BA60-2DBA6867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24C3D-1016-4588-AC1C-C0D6BC54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E1D9-B146-490A-AE1E-CF4C1B1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A2C-1CB9-4CEE-8238-64262BB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58BC3-A250-4BC5-81E1-91AB4CE1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DBA4-E64F-4846-99EF-0318833D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ECC61-90F2-494F-AC01-45DF525C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3672-8C87-4272-885E-8012DC7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CDA19-C76D-48A0-BDD1-B456AEA5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B04F5-32A4-4F18-8A6C-304921F9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24763-1278-48C5-9B7F-81ADB989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DC442-C172-485F-934E-DF17D98F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6FBDD-C472-4AF2-B580-3D921D7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E7BDD-B5CB-4D86-B9B7-B3C21559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B332-A290-4AE2-9CA6-ED3CBB8B9A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DE1E-F43B-4D30-ACBC-131DB365FF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F04B-EB66-427B-AF67-04CCFF8E6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28C7-3388-48AC-815A-3EA50F4D61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4AE1-B265-4E9C-81F6-AE8E0A082A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0257-DCBA-4724-A160-5ED873C62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7342-BF50-4B9D-8D48-8CB5589F5B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BCB9-38E9-45B6-99F7-9469D2A19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EE8E-77F2-4102-BA23-9B7D038653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388-A3B2-4411-A409-0E52D57A2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7F3E-D7CD-4D3E-9676-1DC3639AB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EA80-10E6-467E-B3B9-DEB6CDDCE7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579-F863-495C-AB08-FFB35E8542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1304-4F40-47C2-993C-E96C8ED4FD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0D32-B22F-4746-9846-426FED8EC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49B2-2635-4DDA-AAAA-139DCAB52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C96C-2B53-4DFE-A7CC-650C935686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375-98D1-43A2-A9D8-6CEE20628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D47F-317E-4F15-9E85-1CBB842546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671-6CE8-47C6-B024-D3E3E7AEE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1CF2-BBD5-4F16-8BB9-29E0B18F4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0B80-83E2-40DD-B4AB-9D3C80C5C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9AB2-75E0-43A3-A5B0-7B078A523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1BF7-6766-4D76-B150-D39D6C8BE0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52B8-E4D6-43D3-9771-7196FB3BF8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92C4-3084-44C1-8258-0C3DFC0A3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368A-CCB5-4847-AB1F-7EE203E1D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1F5D-599D-4125-8201-8B0802FA89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4DF4-B258-4D86-96A9-251601AEC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610B-5062-4D0F-B251-2B85FE2A00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DE9B-9FD0-40C6-9367-F2EFDA0E4A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54A9-2469-4E57-863E-104CAC2AB6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BFB2-E3EC-4496-B1BF-88E4522C6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7AC7-887C-4920-A319-614F0CB270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69D1-0171-485A-BB64-B4486426A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9B5-EE18-4E76-83F9-89ECCF57F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B4FB-DC78-4BD5-AA6A-C65EE8CCCF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DF80-8C5D-46BB-99FE-52B9A276B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A07C-A3CA-423F-8147-180122CFE2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1CA8-CFA3-401B-AF20-ABC418F0EE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3360" y="2355840"/>
            <a:ext cx="8477280" cy="8571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828880" y="3597120"/>
            <a:ext cx="3486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52231" descr=""/>
          <p:cNvPicPr/>
          <p:nvPr/>
        </p:nvPicPr>
        <p:blipFill>
          <a:blip r:embed="rId1"/>
          <a:stretch/>
        </p:blipFill>
        <p:spPr>
          <a:xfrm>
            <a:off x="1552680" y="852480"/>
            <a:ext cx="6038640" cy="51530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2"/>
          <a:stretch/>
        </p:blipFill>
        <p:spPr>
          <a:xfrm>
            <a:off x="2050920" y="3529080"/>
            <a:ext cx="5400720" cy="4795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3"/>
          <a:stretch/>
        </p:blipFill>
        <p:spPr>
          <a:xfrm>
            <a:off x="1979640" y="4164120"/>
            <a:ext cx="5400720" cy="4791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4"/>
          <a:stretch/>
        </p:blipFill>
        <p:spPr>
          <a:xfrm>
            <a:off x="2122560" y="4795920"/>
            <a:ext cx="5400720" cy="479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5"/>
          <a:stretch/>
        </p:blipFill>
        <p:spPr>
          <a:xfrm>
            <a:off x="2050920" y="5430960"/>
            <a:ext cx="5400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1160" y="941400"/>
            <a:ext cx="8581680" cy="5800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117960" y="4054320"/>
            <a:ext cx="517320" cy="4302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211640" y="4062240"/>
            <a:ext cx="517680" cy="430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268360" y="4854600"/>
            <a:ext cx="2303640" cy="4302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195640" y="5516640"/>
            <a:ext cx="2303280" cy="4302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268360" y="6180120"/>
            <a:ext cx="2303640" cy="4302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934320" y="4025880"/>
            <a:ext cx="517320" cy="430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8028000" y="4033800"/>
            <a:ext cx="517680" cy="4302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084720" y="4826160"/>
            <a:ext cx="2664000" cy="4302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6012000" y="5487840"/>
            <a:ext cx="2303280" cy="4302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6084720" y="6151680"/>
            <a:ext cx="23036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9410" descr=""/>
          <p:cNvPicPr/>
          <p:nvPr/>
        </p:nvPicPr>
        <p:blipFill>
          <a:blip r:embed="rId1"/>
          <a:stretch/>
        </p:blipFill>
        <p:spPr>
          <a:xfrm>
            <a:off x="557280" y="919080"/>
            <a:ext cx="8029440" cy="5534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4975200" y="1197000"/>
            <a:ext cx="172872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4514760" y="1773360"/>
            <a:ext cx="1728720" cy="479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4514760" y="290988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5364000" y="282744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6156360" y="29242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6804000" y="280980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8"/>
          <a:stretch/>
        </p:blipFill>
        <p:spPr>
          <a:xfrm>
            <a:off x="5148360" y="3946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9"/>
          <a:stretch/>
        </p:blipFill>
        <p:spPr>
          <a:xfrm>
            <a:off x="5997600" y="386388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0"/>
          <a:stretch/>
        </p:blipFill>
        <p:spPr>
          <a:xfrm>
            <a:off x="6789600" y="396072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1"/>
          <a:stretch/>
        </p:blipFill>
        <p:spPr>
          <a:xfrm>
            <a:off x="7437600" y="3846600"/>
            <a:ext cx="576000" cy="530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2"/>
          <a:stretch/>
        </p:blipFill>
        <p:spPr>
          <a:xfrm>
            <a:off x="5608800" y="5618160"/>
            <a:ext cx="5760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76801" descr=""/>
          <p:cNvPicPr/>
          <p:nvPr/>
        </p:nvPicPr>
        <p:blipFill>
          <a:blip r:embed="rId1"/>
          <a:stretch/>
        </p:blipFill>
        <p:spPr>
          <a:xfrm>
            <a:off x="614520" y="1500120"/>
            <a:ext cx="7914960" cy="38577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075280" y="183672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5724360" y="17589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472080" y="182232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7121520" y="17445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4846680" y="288144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495760" y="280368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6243480" y="286704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9"/>
          <a:stretch/>
        </p:blipFill>
        <p:spPr>
          <a:xfrm>
            <a:off x="6892920" y="2789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0"/>
          <a:stretch/>
        </p:blipFill>
        <p:spPr>
          <a:xfrm>
            <a:off x="5076720" y="4551480"/>
            <a:ext cx="9352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8373" descr=""/>
          <p:cNvPicPr/>
          <p:nvPr/>
        </p:nvPicPr>
        <p:blipFill>
          <a:blip r:embed="rId1"/>
          <a:stretch/>
        </p:blipFill>
        <p:spPr>
          <a:xfrm>
            <a:off x="676440" y="1366920"/>
            <a:ext cx="7791120" cy="4124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332000" y="350028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332000" y="422100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5508720" y="285264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5508720" y="350028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5508720" y="422100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435640" y="4869000"/>
            <a:ext cx="30956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7352" descr=""/>
          <p:cNvPicPr/>
          <p:nvPr/>
        </p:nvPicPr>
        <p:blipFill>
          <a:blip r:embed="rId1"/>
          <a:stretch/>
        </p:blipFill>
        <p:spPr>
          <a:xfrm>
            <a:off x="700200" y="1809720"/>
            <a:ext cx="7743600" cy="3238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331308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11280" y="3156120"/>
            <a:ext cx="3313080" cy="479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611280" y="3844800"/>
            <a:ext cx="331308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611280" y="4508640"/>
            <a:ext cx="3313080" cy="479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5119560" y="2492280"/>
            <a:ext cx="331308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5119560" y="3156120"/>
            <a:ext cx="3313080" cy="4791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5119560" y="3844800"/>
            <a:ext cx="3313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6324" descr=""/>
          <p:cNvPicPr/>
          <p:nvPr/>
        </p:nvPicPr>
        <p:blipFill>
          <a:blip r:embed="rId1"/>
          <a:stretch/>
        </p:blipFill>
        <p:spPr>
          <a:xfrm>
            <a:off x="728640" y="820800"/>
            <a:ext cx="7686720" cy="58482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1116000" y="3774960"/>
            <a:ext cx="388764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1116000" y="4379760"/>
            <a:ext cx="388764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1187280" y="4984920"/>
            <a:ext cx="3888000" cy="4791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1187280" y="5589720"/>
            <a:ext cx="3888000" cy="4791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1187280" y="6194520"/>
            <a:ext cx="59770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5300" descr=""/>
          <p:cNvPicPr/>
          <p:nvPr/>
        </p:nvPicPr>
        <p:blipFill>
          <a:blip r:embed="rId1"/>
          <a:stretch/>
        </p:blipFill>
        <p:spPr>
          <a:xfrm>
            <a:off x="262080" y="1200240"/>
            <a:ext cx="8619840" cy="4457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971640" y="3198960"/>
            <a:ext cx="3744720" cy="4791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900000" y="3803760"/>
            <a:ext cx="3745080" cy="479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826920" y="4422600"/>
            <a:ext cx="3745080" cy="4795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755640" y="5027760"/>
            <a:ext cx="77770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54276" descr=""/>
          <p:cNvPicPr/>
          <p:nvPr/>
        </p:nvPicPr>
        <p:blipFill>
          <a:blip r:embed="rId1"/>
          <a:stretch/>
        </p:blipFill>
        <p:spPr>
          <a:xfrm>
            <a:off x="466560" y="166680"/>
            <a:ext cx="8210880" cy="65246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2"/>
          <a:stretch/>
        </p:blipFill>
        <p:spPr>
          <a:xfrm>
            <a:off x="971640" y="374508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4"/>
          <a:stretch/>
        </p:blipFill>
        <p:spPr>
          <a:xfrm>
            <a:off x="971640" y="49687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5"/>
          <a:stretch/>
        </p:blipFill>
        <p:spPr>
          <a:xfrm>
            <a:off x="1042920" y="558972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6"/>
          <a:stretch/>
        </p:blipFill>
        <p:spPr>
          <a:xfrm>
            <a:off x="1042920" y="6194520"/>
            <a:ext cx="48243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5:4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